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move the slide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C64FC-4C5D-4341-83FF-A2EA85104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freelance-writing.lovetoknow.com/Tips_on_Writing_a_Memoir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a memoir reads more like a novel than an autobiography. While an autobiography often covers a long time period and provides many details, a memoir deals with events related to a specific theme. Examples of topics for memoirs may include recovering from an eating disorder, dealing with an abusive spouse, or what it's like to live with a chronic ill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peaking, memoirs tend to be much more popular than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utobiograph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lthough a memoir is true, the events are told in a way that makes it seem like a fictional work. This makes the story much more interesting to the reader, even if the author is someone they have never heard of bef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319EA-C04E-41AF-B372-D3E74A857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BB54-95F6-4021-B414-88D57C0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41DA-7D7F-46A8-BE5D-03DDB635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33C9A-C489-447D-A49F-1DD9DF1E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63603-D56C-424D-A583-4433A50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E98E0-BD8A-407B-AAA2-93FA581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1A0F3-35AA-4A7D-AC1B-8D640C2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CBE98-59B4-479E-A0C7-8FB5EDE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DE617-BEDD-4C3D-8B58-E8D2AA2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D81CB-3CD5-4EC6-BD38-5A0BC31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B51FD-9524-4190-80B0-F9C4FC53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26B51-E53B-471C-929C-9144AD3C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FDFC1-52A8-4BF9-B452-8436215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9F95-5036-4B22-96E0-8F150C1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FCD88-0D6D-4DF3-9B53-02019A6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14871-A7AE-48DC-BBC3-1A940F66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0B0AD-6451-4108-954B-70204892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4C1EF-E85A-48CF-82E2-17BA675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0B2E-45C4-4758-BEB4-EC27C55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3249F-3404-48CC-B107-2749812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943A0-C636-4FFD-A8E6-A77349A5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6DFD4-5696-497A-AD4C-ED37E67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D0ABC-61E9-41CC-B2D6-A45B7F1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4BC84-48ED-44FB-9CDF-44219185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A21C-506F-4B39-8C71-28BD1B26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95B86-ED81-4703-8655-7C300B8B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4B6ED6-95EB-437D-B7EF-A964B6EF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DB489-1903-40DB-B6D1-79E0275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0DD2D7-F1E9-43FF-AA73-A9B1C6B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070A56-EF0E-4CB3-AEBB-CE61B18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B768B7-C02E-4151-B678-1DB4934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DED1D-CB7A-411E-84EB-D573E64A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A604A8-DB20-46EC-B90C-DB40483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C3C03-73B6-4752-822E-8EE11F77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13C578-4A69-45BD-9B8A-2A114DC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AC9078-F4DD-48D0-A94F-B7F54EF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AB5D9A-90EC-4259-9BE5-665DB815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550E08-B345-4CF3-B250-D74CBFB5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AAB23-A324-47DB-B88A-2F6DE407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BEF14-B8B6-47F5-8BA7-1E46B763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C1C0C-1BD5-46B0-ACA8-68254266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6D704-F449-42E7-A47E-4E0AB3BB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138F6-5D26-4AFB-8BFE-09BD94D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C3E02-7A26-42DE-B471-FD1D06CA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8E294-C7A6-4EF7-9E38-179AC8E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3EB85-7092-4344-9A0B-5293F2A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62529-BCB7-466C-91F8-C98071FF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87D49-DEA9-4A95-B975-EB6386B2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6B4BF-084F-4579-820B-551D5480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9791E-336F-4178-8936-2B306696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9DB37D-C2FE-4742-A12B-98FC4855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A6C7BF-56B5-4DF1-9540-4210348B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4B326B-5311-4B50-814B-83E9FDF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7ADBA2-5D66-4CC1-A601-AED2502E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610230-2301-4EFE-A742-E30E498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1AE0CA-34B0-4BD9-AB28-08EA375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20DF70-91A8-4255-946D-551FB771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1E42F5-43A1-4BFE-9D01-EFFDA1E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6FFF20-D691-47C8-9706-A2EA7F3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E52578-53FC-4360-A3E4-769EE4A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9CF21A-BC0B-4F9C-9F71-58576A0C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E1BEBC-0000-4BD2-A24A-BAC9E440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FF992B-A0FF-4302-BD34-D88E7EAA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04B645-12E2-4B15-B796-C02C0E33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6CAE45-91A9-4D58-9FF4-BD86185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0163D5-1A9B-4B48-8F96-3C115F1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0A2B77-F2A7-46D4-BF6E-F21BD894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87C134-A09E-41B3-A12B-52D33270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2CD532-1357-4A80-8B19-779F99E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4AB537-1BFC-4836-BD2E-177EFC2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888ED7-9C01-41E6-A92D-62E49A6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EB09E3-6059-4944-8118-3F86185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BA7D7C-EDE5-4214-A14E-7D656C0B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4F1C94-A955-4B3E-8790-3F4AC60A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D697-65E8-4D49-AC07-8D6B8BA9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F2AD5-E941-4736-83AF-CDDF3A4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C6C72-856A-4D15-A372-00BBD13D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397BB-6DDA-4A25-83DD-E558E5A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280C2-02B9-49ED-ABEC-FA6C085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22560-B97F-41D5-9CC5-6F683B51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1207-36ED-495F-8ED8-8BF1AF14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F3E91-0E75-422B-9BFE-8B7794D1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70B65-715F-4C61-B494-FC087C2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67E8D-377C-40E8-B27F-C4C62D9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38DE0-1282-4E6D-8737-F1A613B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B323-C360-4D43-AC32-D673958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07620-24E9-47AB-93F9-EE37965C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864A4-713E-414F-A0F3-735D4F4C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6757-F643-4576-A0E7-D38B3D2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6C76E-D978-453B-B112-8C278BB4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9FE4-3AD8-4A9B-9E12-205AE39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D597B-C07B-4CC3-9C2E-4277EED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4EB40-4193-45EE-A467-7F36B87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713E5-2B9D-449A-A239-296A98CE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5C153-7C8A-4C0D-9CBF-F5A0799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5939D9-2B83-4557-8AC3-E2BB8957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BC391-A966-45EF-9BBA-781B955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852C9-4868-440A-827D-2BC0F81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DCD24-5E1F-41F8-B8BC-8AEF2DA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3C290-A3CE-49F4-8F13-532DCBB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3BB46-6140-4C7E-931C-562D0ACA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87D8-25FB-4EF9-A3E0-C526607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59170-75B6-4D23-B341-9AC6E4FC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A920B-335E-4D5F-800F-59D3627B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3A5AD-3C32-407D-9793-DE5C118B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DFC90-0BC5-4057-AA03-47949B91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6431DB-1AE6-463C-A5B1-4A230C2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F5EEA-79BD-4022-89DB-6657631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5422E-5205-4FD6-9909-67F1222E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2CF54-A11F-450B-9378-F870651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6EFA1-3C79-4C4D-A1FF-D1746B2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D50FB-4759-4BC0-9DE3-5FAE06D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BF08-D6CE-4D5C-A504-98934AA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DD5E4-2AE6-47D2-9D2B-855CB52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9F770-38E0-41F1-84B2-1C665DDB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0861C-D661-4747-9244-82287E12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80CB1-FFDC-4462-9303-EF14C337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00F42-5ADA-4467-800E-674A261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AC723A-4D72-4381-82FB-9C5CBA3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F48C1B-1EFE-4416-B2B9-B86ADFB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71DF41-E305-42FC-B0F9-E074B7B4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5E83B-FFD6-4DD6-B000-59D9587F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CA7E4-9784-418F-A02E-2666DDD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DEFF-9B4E-4699-A0CB-01DC490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915DB-040B-4C45-9CCD-EA81CEE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9C1C1A-8DD4-4786-AD98-99C56B1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CC12F-8527-4A4F-BEBB-928C0B24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EB7A2-114C-4E5A-BAE3-3BC5FE50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EEB813-9A40-41CA-8F7B-BFE46EDA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25C38C-0BBB-4DAC-B059-E02CD65E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D8084-1E46-4C0F-ABF9-109EC44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67E565-CF77-4126-BD41-7F6CECF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241846-F884-495F-BA9B-3C65FBE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32A5B5-9E5A-46DD-B29B-1042280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1A77-F474-4582-89C4-F3325FC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40FA4-586F-4DF6-9061-8FBE690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8B2408-7131-4EDD-93A1-3017965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025CF-7710-4209-8532-40C6F8D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79495B-8266-4D4C-B00F-D4FC476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E3E51-7882-4860-BC28-3106C865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738F2-2F67-4827-95B0-CA6B2D13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F6B014-54F0-44DE-BD3B-8220E70F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F45A7-1B29-4234-9222-7BA3BB25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E749D-4826-4CCF-A887-F7677994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F71C7-46D5-410E-9A5A-2639BA2A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491AC-C755-49CF-BB0E-AEFA4DF3ED68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1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04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F5C75-047E-46F1-BE92-776BC313C7FD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A09E8-657E-4C12-B3C3-BD4CE64C841E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8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90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2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B67C4-1A00-424C-9C3D-B25532984B0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534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5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6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0CCEA-A580-4734-AEDC-E289E15E8190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0"/>
          <p:cNvGrpSpPr/>
          <p:nvPr/>
        </p:nvGrpSpPr>
        <p:grpSpPr>
          <a:xfrm>
            <a:off x="0" y="0"/>
            <a:ext cx="7696080" cy="6858000"/>
            <a:chOff x="0" y="0"/>
            <a:chExt cx="7696080" cy="6858000"/>
          </a:xfrm>
        </p:grpSpPr>
        <p:pic>
          <p:nvPicPr>
            <p:cNvPr id="578" name="Picture 7" descr="Overlay-Blank.jpg"/>
            <p:cNvPicPr/>
            <p:nvPr/>
          </p:nvPicPr>
          <p:blipFill>
            <a:blip r:embed="rId3"/>
            <a:srcRect l="1473" t="0" r="16864" b="0"/>
            <a:stretch/>
          </p:blipFill>
          <p:spPr>
            <a:xfrm>
              <a:off x="0" y="0"/>
              <a:ext cx="7467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742824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8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9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313AE-B986-4EF4-AB7F-E6C9A6B75782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42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45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89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FEDE5-FB61-4E0F-9ABA-7CD309271AD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133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136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9"/>
          <p:cNvGrpSpPr/>
          <p:nvPr/>
        </p:nvGrpSpPr>
        <p:grpSpPr>
          <a:xfrm>
            <a:off x="0" y="0"/>
            <a:ext cx="9144000" cy="1190160"/>
            <a:chOff x="0" y="0"/>
            <a:chExt cx="9144000" cy="1190160"/>
          </a:xfrm>
        </p:grpSpPr>
        <p:pic>
          <p:nvPicPr>
            <p:cNvPr id="180" name="Picture 7" descr="Overlay-Blank.jpg"/>
            <p:cNvPicPr/>
            <p:nvPr/>
          </p:nvPicPr>
          <p:blipFill>
            <a:blip r:embed="rId3"/>
            <a:srcRect l="0" t="0" r="0" b="85561"/>
            <a:stretch/>
          </p:blipFill>
          <p:spPr>
            <a:xfrm>
              <a:off x="0" y="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Overlay-HorizontalBridge.jpg"/>
            <p:cNvPicPr/>
            <p:nvPr/>
          </p:nvPicPr>
          <p:blipFill>
            <a:blip r:embed="rId4"/>
            <a:stretch/>
          </p:blipFill>
          <p:spPr>
            <a:xfrm flipH="1" rot="10800000">
              <a:off x="0" y="92232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0"/>
          <p:cNvGrpSpPr/>
          <p:nvPr/>
        </p:nvGrpSpPr>
        <p:grpSpPr>
          <a:xfrm>
            <a:off x="0" y="5667480"/>
            <a:ext cx="9144000" cy="1190160"/>
            <a:chOff x="0" y="5667480"/>
            <a:chExt cx="9144000" cy="1190160"/>
          </a:xfrm>
        </p:grpSpPr>
        <p:pic>
          <p:nvPicPr>
            <p:cNvPr id="183" name="Picture 10" descr="Overlay-Blank.jpg"/>
            <p:cNvPicPr/>
            <p:nvPr/>
          </p:nvPicPr>
          <p:blipFill>
            <a:blip r:embed="rId5"/>
            <a:srcRect l="0" t="0" r="0" b="85561"/>
            <a:stretch/>
          </p:blipFill>
          <p:spPr>
            <a:xfrm flipH="1" rot="10800000">
              <a:off x="0" y="586728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1" descr="Overlay-HorizontalBridge.jpg"/>
            <p:cNvPicPr/>
            <p:nvPr/>
          </p:nvPicPr>
          <p:blipFill>
            <a:blip r:embed="rId6"/>
            <a:stretch/>
          </p:blipFill>
          <p:spPr>
            <a:xfrm>
              <a:off x="0" y="566748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2" descr="HR-Color.png"/>
          <p:cNvPicPr/>
          <p:nvPr/>
        </p:nvPicPr>
        <p:blipFill>
          <a:blip r:embed="rId7"/>
          <a:stretch/>
        </p:blipFill>
        <p:spPr>
          <a:xfrm>
            <a:off x="1554120" y="3259080"/>
            <a:ext cx="60357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E1F35-AACF-4D52-BC06-6D06D3B6F422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2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EA677-AE9B-49B8-B8C2-D4C4BE68E7C6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72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9" descr="Overlay-HorizontalBridge.jpg"/>
          <p:cNvPicPr/>
          <p:nvPr/>
        </p:nvPicPr>
        <p:blipFill>
          <a:blip r:embed="rId5"/>
          <a:srcRect l="0" t="23426" r="61034" b="39798"/>
          <a:stretch/>
        </p:blipFill>
        <p:spPr>
          <a:xfrm>
            <a:off x="4765680" y="2460600"/>
            <a:ext cx="3564000" cy="9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Overlay-HorizontalBridge.jpg"/>
          <p:cNvPicPr/>
          <p:nvPr/>
        </p:nvPicPr>
        <p:blipFill>
          <a:blip r:embed="rId6"/>
          <a:srcRect l="0" t="23426" r="61034" b="39798"/>
          <a:stretch/>
        </p:blipFill>
        <p:spPr>
          <a:xfrm>
            <a:off x="779400" y="2460600"/>
            <a:ext cx="3564000" cy="98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6B8ED-E38D-4603-94A0-5D85857CB7A0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31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443F3-699A-444E-979D-E52FA10831A7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82A2D-F884-4DAB-9771-D0091924D44E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54000" y="38088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f1f58"/>
                </a:solidFill>
                <a:latin typeface="Mistral"/>
              </a:rPr>
              <a:t>Graphic Novels</a:t>
            </a:r>
            <a:endParaRPr b="0" lang="en-US" sz="65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4920" y="51814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f58"/>
                </a:solidFill>
                <a:latin typeface="Candara"/>
              </a:rPr>
              <a:t>Office of Educational Technology Queens</a:t>
            </a:r>
            <a:endParaRPr b="0" lang="en-US" sz="2200" spc="-1" strike="noStrike">
              <a:solidFill>
                <a:srgbClr val="2f1f58"/>
              </a:solidFill>
              <a:latin typeface="Candara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f58"/>
                </a:solidFill>
                <a:latin typeface="Candara"/>
              </a:rPr>
              <a:t>Enhancing Writing Instruction Through Technology</a:t>
            </a:r>
            <a:endParaRPr b="0" lang="en-US" sz="22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1295280" y="259092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e interplay of the written and the visual is a complicated process; a comic does not happen in the words, or the pictures, but somewhere in between, in what is sometimes known as “the marriage of text and image.’”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304920" y="2743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“</a:t>
            </a: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Selecting our Seed Ideas”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Make a list of special: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Place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Object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Animals (can be human)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Event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Narrow down your list by thinking about the most significant of these.  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Drafting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Begin writing your “Seed piece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Remember to try and include: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imile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etaphor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Personification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Onomatopoeia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ensory details (sight, sound, taste, touch, smell)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urning Your Narrative into a Graphic Novel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4272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1f58"/>
                </a:solidFill>
                <a:latin typeface="Arial"/>
              </a:rPr>
              <a:t>A blending of words and images to tell your story.</a:t>
            </a:r>
            <a:endParaRPr b="0" lang="en-US" sz="31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1f58"/>
                </a:solidFill>
                <a:latin typeface="Arial"/>
              </a:rPr>
              <a:t>Images need to be carefully chosen to help move story.</a:t>
            </a:r>
            <a:endParaRPr b="0" lang="en-US" sz="29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1f58"/>
                </a:solidFill>
                <a:latin typeface="Arial"/>
              </a:rPr>
              <a:t>Text needs to be succinct (and yet still powerful)! </a:t>
            </a:r>
            <a:endParaRPr b="0" lang="en-US" sz="29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ext in Graphic Novel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Although text is succinct, it is still very important and therefore, a script is necessary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Space limits the words in a graphic novel, but this limit only makes them more valuable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Treat words like rare diamonds, and your reward will be a storytelling treasure”</a:t>
            </a:r>
            <a:r>
              <a:rPr b="0" lang="en-US" sz="1900" spc="-1" strike="noStrike">
                <a:solidFill>
                  <a:srgbClr val="2f1f58"/>
                </a:solidFill>
                <a:latin typeface="Arial"/>
              </a:rPr>
              <a:t> Rosinsky, 42. </a:t>
            </a: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A good rule of thumb would be to have no more than 30 words in a panel and no more than 17 in a speech bubble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ext Features in Graphic Novel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1452240"/>
            <a:ext cx="91440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Balloon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7860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peech bubbles- what the characters are saying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7860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Thought bubbles- what the characters are thinking. 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**Match the size, shape and type of line you use to the content of the speech/thought.**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For example: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Use jagged lines to indicate anger, yelling, screaming, or fright.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Place shouts in large balloons 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Place whispers in small balloons.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Use bubble tails for thought balloons.</a:t>
            </a: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  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Captions- the narrator of the story. 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ettering- used for titles, onomatopoeia 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2f1f58"/>
                </a:solidFill>
                <a:latin typeface="Candara"/>
              </a:rPr>
              <a:t> </a:t>
            </a:r>
            <a:endParaRPr b="0" lang="en-US" sz="7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854000" y="38088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f1f58"/>
                </a:solidFill>
                <a:latin typeface="Mistral"/>
              </a:rPr>
              <a:t>Memoirs</a:t>
            </a:r>
            <a:endParaRPr b="0" lang="en-US" sz="65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1295280" y="259092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In order to write memoir, we need to see that literature is made out of the everyday stuff of our lives.”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Definitions of Memoir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1761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Virginia Woolf- “A memoir is not what happens, but the person to whom things happen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William Zinsser- “Memoir is a window into a life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Jean Little- “Memoir is not the whole head of hair but one or two strands of hair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Lucy Calkins- “Our memoir will come not only from our memories but also from our imaginations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Memoirs are not Autobiographies!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Typically reads more like a novel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A memoir deals with events related to a specific theme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They are true stories but tend to read more like fiction.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f58"/>
                </a:solidFill>
                <a:latin typeface="Mistral"/>
              </a:rPr>
              <a:t>“</a:t>
            </a:r>
            <a:r>
              <a:rPr b="0" lang="en-US" sz="3300" spc="-1" strike="noStrike">
                <a:solidFill>
                  <a:srgbClr val="2f1f58"/>
                </a:solidFill>
                <a:latin typeface="Mistral"/>
              </a:rPr>
              <a:t>In writing memoir, we select moments that reveal our own experiences of our lives.” ~Lucy Caulkins</a:t>
            </a:r>
            <a:r>
              <a:rPr b="0" lang="en-US" sz="3300" spc="-1" strike="noStrike">
                <a:solidFill>
                  <a:srgbClr val="2f1f58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haracteristics of a Memoir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Focuses and reflects on the relationship between the writer and a particular place, animal, event, or object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eaves the reader with one impression of the subject of the memoir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imited to a particular phase, time period, place or recurring behavior in order to develop the focus fully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akes the subject of the memoir come alive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aintains a first person point of view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Analyzing Memoir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Activity:  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In your folders, there are sample memoirs.  Read the memoir and think about the questions that are asked pertaining to that memoir.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8:22:29Z</dcterms:created>
  <dc:creator>NYCDOE Schools</dc:creator>
  <dc:description/>
  <dc:language>en-US</dc:language>
  <cp:lastModifiedBy>KGallagher4</cp:lastModifiedBy>
  <dcterms:modified xsi:type="dcterms:W3CDTF">2010-10-19T13:23:18Z</dcterms:modified>
  <cp:revision>27</cp:revision>
  <dc:subject/>
  <dc:title>Memoirs</dc:title>
</cp:coreProperties>
</file>